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3BA-8D65-4733-AF39-2D060529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8A3-6FB4-48C9-A4BB-E251D12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933-5F6B-4312-821D-FB78E6AC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A14-7011-4F85-BDDA-1C13026C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74EBD-7793-4E42-BB8D-763443AC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F89B6-1DA2-47E5-B0BE-2FE3EC0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DBD0-71A6-4669-8BD3-F743D4C0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5AF75-303A-4DED-9D76-4E4E3E5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AEE1E-9CFB-4CA7-8B3F-C8E8FF10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CB57-6152-40B7-A528-CE8BE65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F0BBB-6076-480D-9F42-25A9EFA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355-155D-405C-B505-4EC5BCAA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6F30A-74DB-47B5-BF52-F0000BF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6AEB-6631-4CDB-958F-E61EDFFB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2A156-B0F9-4564-AFD1-75422B1C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0550A-A5D4-459F-9888-5F3ECB58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B6A1B-0BC5-4D03-945F-F498628D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A38-4455-4AEB-8932-D57827AD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EBE-2557-4BC3-B50F-68339E20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BA1-B6C7-48C7-852D-5FC8BF23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F81-6953-48FC-8C41-5E629134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3D4-23F1-45D7-9ACB-3D8886AE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B35-5FD8-46A7-8374-1F7CF56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C90-16E4-4162-B6C5-C0DABCA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93C2-79F5-4CF3-9CEF-93C69E9551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E1F-8D22-4BEF-9DC2-646D85D24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od you believe that over 7000 years ago Ancient Egyptians liked to bowl on alleys alot like 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veland Indians are named after Louis Sockolexis whom was the first american indian to play professional baseb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urnal #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 for/against the pay of superstar athle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riet Tubman, the former slave who became famous for her corage as a conductor on the Underground Railroad once made this statement “On my Underground Railroad, I never ran my train off the track and I never lost a passenge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a well publicized goverment report, more than half of Americas’ new jobs will be in the following industries health services, business services, and retail tr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urnal #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quote: “Beauty is in the eye of the beholder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 Margaret Hunger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iday Warm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pt/Ex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(verb) to receive willing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) John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cept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troph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(prep) but; exclu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) Everyon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Beth went out for piz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200400"/>
            <a:ext cx="8763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ce was humble as she (accepted, excepted) the award for most valuable play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y parents will not (accept, except) any excuses for breaking curf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All of the boys (accept, except) George were on time for the mee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Malcolm will (accept, except) your package from UPS when it arri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All of my children have blue eyes (accept, except) my oldest son, Gre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3:43Z</dcterms:created>
  <dc:creator>tpagel</dc:creator>
  <dc:description/>
  <dc:language>en-US</dc:language>
  <cp:lastModifiedBy>tpagel</cp:lastModifiedBy>
  <dcterms:modified xsi:type="dcterms:W3CDTF">2010-09-15T16:13:21Z</dcterms:modified>
  <cp:revision>2</cp:revision>
  <dc:subject/>
  <dc:title>Warm-Up Sentences</dc:title>
</cp:coreProperties>
</file>